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6.wmf" ContentType="image/x-wmf"/>
  <Override PartName="/ppt/media/image61.png" ContentType="image/png"/>
  <Override PartName="/ppt/media/image59.png" ContentType="image/png"/>
  <Override PartName="/ppt/media/image24.jpeg" ContentType="image/jpeg"/>
  <Override PartName="/ppt/media/image22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31.png" ContentType="image/png"/>
  <Override PartName="/ppt/media/image29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80E8-6B47-4B41-8FA6-5E5E9BAA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775-5B8B-4204-A6E9-E9489A302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DB8-E8C3-4D53-9F7E-DD14E5787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059-DF3A-4056-8B33-438B76733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2DC8-1896-4BD0-A7DA-95B7DB5AC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F2C3-AB32-4673-A48F-89E861F57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F222-6E65-40C2-A392-1FF349D89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C9C0-DF01-41B6-8A36-D5DFD951B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E32-5D5A-410A-A0B2-762B7A1C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EFC-FA65-446A-B6B9-DA38BC5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EF3-7AD2-4A7F-9445-8FD92344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ED8-0023-4957-AD7A-01256C58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705B-FA10-4327-8491-E856CCA0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D70-6139-4425-8D08-C549897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C3E1-3F66-4152-B425-66B490A5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C540-C481-4684-AF0A-09998CB8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590D-3CC9-462F-BF1C-67F53914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09AE-5B5E-41FC-95D8-219CA64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3A65-8E8B-4C1C-85C7-EF09EED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1A4-751C-4E2A-9ACB-7226CE7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6970-6B3F-4F9A-AF89-258D9C2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05C2-CDE4-45AC-AB66-F2484967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F335-DE2C-406B-8C51-A73E4F1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4720-FA1F-4772-B4A2-CBAF0E56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CDE8-FC77-4A57-82AE-7148605A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1760-B1A1-4ABF-931B-05001016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B7A1-6B26-4A09-B282-FFAF1182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457C0-91B0-4125-93A3-A1DF17C5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A3FC-3C22-4EB6-BA82-FB2D1B8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756B-CFBF-4D23-91AE-CED7B15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BA5-7630-4F53-9FC6-983FCE2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1D2C-A2F8-4E78-95EB-A6DBB6B9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C5D3-373B-41C6-A14E-A98DDA9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92C9-6895-4F45-8D5F-CCC7664C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8ABD-4664-44BE-9220-9DD7251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9DDD-EB43-49F1-8A7C-0E948637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2850-6385-4FA0-848B-E71FA560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D55A-A1C6-4459-B6EA-7059D601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E7B9-9166-49BB-82CC-7D3DBE21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BD40-1389-48A8-BA04-3C4BD963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3DBD-564B-4811-93E2-122BE78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E18-C4F7-4AF3-866F-8BF9CFFD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ACEA-FCDB-47A0-B7A8-6188D68C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5A67-CD76-421F-9BB8-4E8B740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2262-BFD7-42DB-842C-776101B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4DF9-B79A-4236-BD15-0C4F389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A084-3305-4378-AA78-2FF9A133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C7FD-59CA-4FF3-B75C-0957D73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BA35-861F-44AC-BAB0-5632BF2A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35DB-8064-49D0-A20B-8E105343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0352-4B3C-4FD7-9A3E-B2D9EC0E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1EC1-7E24-4113-8325-4C7CEC23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FD4-793F-4BD3-A7D2-05D909DE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8667-DE84-440B-922D-C81B6B3D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108B2-6302-4CD6-9B60-EFD8E3CE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0867-2D7E-45E3-BB53-AD12621A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F447-6869-49E8-884D-251D7075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3A14-CA6F-487F-A157-3240F91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2D2E-E862-41B6-BEC1-68594C4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F0838-6A22-456A-9911-E5BBCC8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4906B-3BCA-4A7A-A2FF-627C45E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3CCD-AE1D-4194-B7D0-3C23E4B4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D11AB-E4E7-44A6-AEC6-883F872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667-7B61-425D-9291-1B4A695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BC5A-3BF7-414E-835E-F0A9DEF9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8FAB-3E02-4BAA-AAC3-64717362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1974-EAB0-4429-8CCB-05BED27D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1020-1136-4BB1-AE84-83807B84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6C12-D23C-4C7B-990E-7BFA367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9918-9A57-44FE-BE8A-6DCB58F7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365F-4783-4563-89CD-640FE777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EB31-9AA0-4998-B0E7-58267B1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79D6-4722-417C-A34A-53DFE18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ACE10-C226-450D-80D1-D0820D4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849-EFCB-4382-9A2A-5D21304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B795-F5E7-48A8-BF14-75275A66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D6F61-2AD0-4A85-9441-99D956A8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C4481-373C-4239-B247-8DAD093C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D15A2-FD70-46B2-80D7-571AC4D4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B21F5-759B-487B-99C1-175B32AA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487E-40B5-4B29-960E-174A191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16E9-2472-4E4A-B36A-AF8EEAC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85F1-BC09-425B-9971-AFDE300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7D48-805E-415B-867A-CF878FCC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950F-E575-4B62-8849-B94E23B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687-4515-4332-A2D9-1AF3957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64D4-B1FA-49C7-A3B6-99580AB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DB2D-4300-45AD-AB6C-C88598F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4057F-C400-4624-B69B-AED2806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17E16-974D-4D33-983E-CE17C480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E397-9867-4869-A032-6F35F255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498-7096-4BA4-8809-1B5E8EB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774B-CB52-4529-9BA2-6BB469F2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005b"/>
              </a:gs>
              <a:gs pos="100000">
                <a:srgbClr val="ae86c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ADAF-36F4-4A10-9D3F-5DF01B790E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AD6D-B7D6-47FD-854F-A0FCB921D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005b"/>
              </a:gs>
              <a:gs pos="100000">
                <a:srgbClr val="ae86c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F175-97DE-49E7-9E3F-C61D971AF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B29C-557B-4F5A-9002-FC1123D6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4846-189D-4B1C-92DC-680811B77C5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667aa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667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8007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8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089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75EC-2D51-44CD-8985-323AB6C993F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4.xml"/><Relationship Id="rId3" Type="http://schemas.openxmlformats.org/officeDocument/2006/relationships/slide" Target="slide32.xml"/><Relationship Id="rId4" Type="http://schemas.openxmlformats.org/officeDocument/2006/relationships/slide" Target="slide40.xml"/><Relationship Id="rId5" Type="http://schemas.openxmlformats.org/officeDocument/2006/relationships/slide" Target="slide17.xml"/><Relationship Id="rId6" Type="http://schemas.openxmlformats.org/officeDocument/2006/relationships/slide" Target="slide25.xml"/><Relationship Id="rId7" Type="http://schemas.openxmlformats.org/officeDocument/2006/relationships/slide" Target="slide33.xml"/><Relationship Id="rId8" Type="http://schemas.openxmlformats.org/officeDocument/2006/relationships/slide" Target="slide41.xml"/><Relationship Id="rId9" Type="http://schemas.openxmlformats.org/officeDocument/2006/relationships/slide" Target="slide18.xml"/><Relationship Id="rId10" Type="http://schemas.openxmlformats.org/officeDocument/2006/relationships/slide" Target="slide26.xml"/><Relationship Id="rId11" Type="http://schemas.openxmlformats.org/officeDocument/2006/relationships/slide" Target="slide34.xml"/><Relationship Id="rId12" Type="http://schemas.openxmlformats.org/officeDocument/2006/relationships/slide" Target="slide42.xml"/><Relationship Id="rId13" Type="http://schemas.openxmlformats.org/officeDocument/2006/relationships/slide" Target="slide19.xml"/><Relationship Id="rId14" Type="http://schemas.openxmlformats.org/officeDocument/2006/relationships/slide" Target="slide27.xml"/><Relationship Id="rId15" Type="http://schemas.openxmlformats.org/officeDocument/2006/relationships/slide" Target="slide35.xml"/><Relationship Id="rId16" Type="http://schemas.openxmlformats.org/officeDocument/2006/relationships/slide" Target="slide43.xml"/><Relationship Id="rId17" Type="http://schemas.openxmlformats.org/officeDocument/2006/relationships/slide" Target="slide20.xml"/><Relationship Id="rId18" Type="http://schemas.openxmlformats.org/officeDocument/2006/relationships/slide" Target="slide28.xml"/><Relationship Id="rId19" Type="http://schemas.openxmlformats.org/officeDocument/2006/relationships/slide" Target="slide36.xml"/><Relationship Id="rId20" Type="http://schemas.openxmlformats.org/officeDocument/2006/relationships/slide" Target="slide44.xml"/><Relationship Id="rId2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22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" Target="slide30.xml"/><Relationship Id="rId4" Type="http://schemas.openxmlformats.org/officeDocument/2006/relationships/slide" Target="slide21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21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21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21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" Target="slide30.xml"/><Relationship Id="rId4" Type="http://schemas.openxmlformats.org/officeDocument/2006/relationships/slide" Target="slide21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5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ocregister.com/news/game-208290-wow-addiction.html" TargetMode="External"/><Relationship Id="rId3" Type="http://schemas.openxmlformats.org/officeDocument/2006/relationships/hyperlink" Target="http://www.webmd.com/mental-health/features/video-game-addiction-no-fun" TargetMode="Externa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38.xml"/><Relationship Id="rId3" Type="http://schemas.openxmlformats.org/officeDocument/2006/relationships/image" Target="../media/image42.jpeg"/><Relationship Id="rId4" Type="http://schemas.openxmlformats.org/officeDocument/2006/relationships/slide" Target="slide37.xml"/><Relationship Id="rId5" Type="http://schemas.openxmlformats.org/officeDocument/2006/relationships/image" Target="../media/image43.png"/><Relationship Id="rId6" Type="http://schemas.openxmlformats.org/officeDocument/2006/relationships/slide" Target="slide38.xml"/><Relationship Id="rId7" Type="http://schemas.openxmlformats.org/officeDocument/2006/relationships/image" Target="../media/image44.jpeg"/><Relationship Id="rId8" Type="http://schemas.openxmlformats.org/officeDocument/2006/relationships/slide" Target="slide38.xml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38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38.xml"/><Relationship Id="rId3" Type="http://schemas.openxmlformats.org/officeDocument/2006/relationships/slide" Target="slide2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9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en.wikipedia.org/wiki/Hard_disk_drive" TargetMode="External"/><Relationship Id="rId3" Type="http://schemas.openxmlformats.org/officeDocument/2006/relationships/hyperlink" Target="http://en.wikipedia.org/wiki/Central_processing_unit" TargetMode="External"/><Relationship Id="rId4" Type="http://schemas.openxmlformats.org/officeDocument/2006/relationships/hyperlink" Target="http://en.wikipedia.org/wiki/Motherboard" TargetMode="External"/><Relationship Id="rId5" Type="http://schemas.openxmlformats.org/officeDocument/2006/relationships/hyperlink" Target="http://office.microsoft.com/en-us/images/results.aspx?qu=winners&amp;origin=FX101741979#ai:MC900299011|" TargetMode="External"/><Relationship Id="rId6" Type="http://schemas.openxmlformats.org/officeDocument/2006/relationships/hyperlink" Target="http://www.webopedia.com/TERM/H/hardware.html" TargetMode="External"/><Relationship Id="rId7" Type="http://schemas.openxmlformats.org/officeDocument/2006/relationships/hyperlink" Target="http://www.webopedia.com/TERM/S/software.html" TargetMode="External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37.xml"/><Relationship Id="rId5" Type="http://schemas.openxmlformats.org/officeDocument/2006/relationships/slide" Target="slide46.xml"/><Relationship Id="rId6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961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computer is made of hardware and software. Hardware is the objects you can actually touch on the computer. Software is anything that is electronically stored onto the computer. A computer is a system containing many parts working together in order to func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Right Arrow 3">
            <a:hlinkClick r:id="rId2" action="ppaction://hlinksldjump"/>
          </p:cNvPr>
          <p:cNvSpPr/>
          <p:nvPr/>
        </p:nvSpPr>
        <p:spPr>
          <a:xfrm>
            <a:off x="8001000" y="6324480"/>
            <a:ext cx="596880" cy="30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2520" y="262080"/>
            <a:ext cx="85107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 input device is a piece of computer hardware used to provide data and control signals to a processing system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 output device is a piece of computer hardware used to communicate the results of data processing system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Right Arrow 3">
            <a:hlinkClick r:id="rId2" action="ppaction://hlinksldjump"/>
          </p:cNvPr>
          <p:cNvSpPr/>
          <p:nvPr/>
        </p:nvSpPr>
        <p:spPr>
          <a:xfrm>
            <a:off x="8305920" y="6324480"/>
            <a:ext cx="368280" cy="331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438120" y="92160"/>
            <a:ext cx="8255160" cy="1577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5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Binary Numbers are a two based number system comprised of 1s and 0s. 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5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They are used by the computers, calculators, and other computers.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Action Button: Forward or Next 4">
            <a:hlinkClick r:id="rId2" action="ppaction://hlinksldjump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information that is typed into a computer is translated and converted into binary numbers and is read by the CPU and the results of what you typed are then shown to you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Title 10" descr=""/>
          <p:cNvPicPr/>
          <p:nvPr/>
        </p:nvPicPr>
        <p:blipFill>
          <a:blip r:embed="rId1"/>
          <a:stretch/>
        </p:blipFill>
        <p:spPr>
          <a:xfrm>
            <a:off x="-42840" y="92160"/>
            <a:ext cx="8736120" cy="1577880"/>
          </a:xfrm>
          <a:prstGeom prst="rect">
            <a:avLst/>
          </a:prstGeom>
          <a:ln w="0">
            <a:noFill/>
          </a:ln>
        </p:spPr>
      </p:pic>
      <p:sp>
        <p:nvSpPr>
          <p:cNvPr id="338" name="Action Button: Forward or Next 3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8699760" cy="1530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nary Numbers are an important skill to know in case of someone plans on becoming a computer programmer that need to know binary numbers since they are the ‘language’ of computer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Action Button: Forward or Next 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0" y="0"/>
          <a:ext cx="9144000" cy="7040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etiquet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Video Game Addiction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ts Of The   Computer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 Numbers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1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6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7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8" action="ppaction://hlinksldjump"/>
                        </a:rPr>
                        <a:t>2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9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0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1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2" action="ppaction://hlinksldjump"/>
                        </a:rPr>
                        <a:t>3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3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4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5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6" action="ppaction://hlinksldjump"/>
                        </a:rPr>
                        <a:t>4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7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8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19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  <a:hlinkClick r:id="rId20" action="ppaction://hlinksldjump"/>
                        </a:rPr>
                        <a:t>50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cb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755640" y="182520"/>
            <a:ext cx="8193240" cy="159696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3" descr=""/>
          <p:cNvPicPr/>
          <p:nvPr/>
        </p:nvPicPr>
        <p:blipFill>
          <a:blip r:embed="rId2"/>
          <a:stretch/>
        </p:blipFill>
        <p:spPr>
          <a:xfrm>
            <a:off x="1365120" y="1670040"/>
            <a:ext cx="6615360" cy="14637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1066680" y="3124080"/>
            <a:ext cx="7162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U.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South Ko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010360" cy="146988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15360" cy="14572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1523880" y="3352680"/>
            <a:ext cx="67057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A sentence that includes prof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Calling someone a name in a sent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 insulting you family in a sent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All of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150400" cy="146988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20040" cy="1457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523880" y="3352680"/>
            <a:ext cx="670572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INTERNET&amp;NAPK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TERNET&amp;PRO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NETWORK&amp;ETIQUT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INTERNET&amp;ETIQUET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010360" cy="14698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20040" cy="14572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1523880" y="3352680"/>
            <a:ext cx="67057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Most of th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 Some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Only when your parents are checking your Face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Al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Is combination of the words network and etiquet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is using proper manners on the interne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was developed in South Kore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010360" cy="1469880"/>
          </a:xfrm>
          <a:prstGeom prst="rect">
            <a:avLst/>
          </a:prstGeom>
          <a:ln w="0">
            <a:noFill/>
          </a:ln>
        </p:spPr>
      </p:pic>
      <p:pic>
        <p:nvPicPr>
          <p:cNvPr id="356" name="Rectangle 3" descr=""/>
          <p:cNvPicPr/>
          <p:nvPr/>
        </p:nvPicPr>
        <p:blipFill>
          <a:blip r:embed="rId2"/>
          <a:stretch/>
        </p:blipFill>
        <p:spPr>
          <a:xfrm>
            <a:off x="1341360" y="1706400"/>
            <a:ext cx="6656400" cy="15004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1523880" y="3352680"/>
            <a:ext cx="67057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So you don’t come across as a bad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So you don’t get in trou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Not to ruin your repu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All of the ab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4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242560" cy="242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1st place,academic,awards,businesses,ones,prizes,ribbons,special occasions,winners,winning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81080" y="2362320"/>
            <a:ext cx="41626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5" descr=""/>
          <p:cNvPicPr/>
          <p:nvPr/>
        </p:nvPicPr>
        <p:blipFill>
          <a:blip r:embed="rId1"/>
          <a:stretch/>
        </p:blipFill>
        <p:spPr>
          <a:xfrm>
            <a:off x="438120" y="-457200"/>
            <a:ext cx="8255160" cy="2530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85400">
            <a:off x="2611440" y="2643120"/>
            <a:ext cx="48848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article in Microsoft, provided by Ms.Bornfrie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3" descr=""/>
          <p:cNvPicPr/>
          <p:nvPr/>
        </p:nvPicPr>
        <p:blipFill>
          <a:blip r:embed="rId1"/>
          <a:stretch/>
        </p:blipFill>
        <p:spPr>
          <a:xfrm>
            <a:off x="785880" y="-115920"/>
            <a:ext cx="8491320" cy="1590840"/>
          </a:xfrm>
          <a:prstGeom prst="rect">
            <a:avLst/>
          </a:prstGeom>
          <a:ln w="0">
            <a:noFill/>
          </a:ln>
        </p:spPr>
      </p:pic>
      <p:pic>
        <p:nvPicPr>
          <p:cNvPr id="365" name="Subtitle 5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793800" y="3683160"/>
            <a:ext cx="70437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10-1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15-3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30-4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35-4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341280" y="249120"/>
            <a:ext cx="8845560" cy="153036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3" descr=""/>
          <p:cNvPicPr/>
          <p:nvPr/>
        </p:nvPicPr>
        <p:blipFill>
          <a:blip r:embed="rId2"/>
          <a:stretch/>
        </p:blipFill>
        <p:spPr>
          <a:xfrm>
            <a:off x="1427040" y="1695600"/>
            <a:ext cx="6607440" cy="146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1066680" y="3124080"/>
            <a:ext cx="71629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Because they become dominan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Because they are bored and need to do someth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To have fun and part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Because that’s what kids do to relax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buClr>
                <a:srgbClr val="68007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71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755640" y="317520"/>
            <a:ext cx="8778960" cy="145584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3" descr=""/>
          <p:cNvPicPr/>
          <p:nvPr/>
        </p:nvPicPr>
        <p:blipFill>
          <a:blip r:embed="rId2"/>
          <a:stretch/>
        </p:blipFill>
        <p:spPr>
          <a:xfrm>
            <a:off x="1365120" y="1749600"/>
            <a:ext cx="6608880" cy="14572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1523880" y="3352680"/>
            <a:ext cx="67057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Playing for amounts of tim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They sleep and eat all da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Going outside to play with friend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Getting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annoyed with the game and give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665280"/>
            <a:ext cx="8491680" cy="158436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857160" y="2984400"/>
            <a:ext cx="774864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My many online rocking playing gam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ultiple massive organize role playing gam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Massive multiplayer online role playing gam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My mothers orange ribbon pinches grandm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3" descr=""/>
          <p:cNvPicPr/>
          <p:nvPr/>
        </p:nvPicPr>
        <p:blipFill>
          <a:blip r:embed="rId1"/>
          <a:stretch/>
        </p:blipFill>
        <p:spPr>
          <a:xfrm>
            <a:off x="530280" y="201600"/>
            <a:ext cx="8491320" cy="1590840"/>
          </a:xfrm>
          <a:prstGeom prst="rect">
            <a:avLst/>
          </a:prstGeom>
          <a:ln w="0">
            <a:noFill/>
          </a:ln>
        </p:spPr>
      </p:pic>
      <p:pic>
        <p:nvPicPr>
          <p:cNvPr id="377" name="Subtitle 4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5"/>
          <p:cNvSpPr/>
          <p:nvPr/>
        </p:nvSpPr>
        <p:spPr>
          <a:xfrm>
            <a:off x="922320" y="3365640"/>
            <a:ext cx="76201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Having friends over to pla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Being anti-social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Having eye sight problem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17480" indent="-71748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Talking to much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742600" cy="2048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1st place,academic,awards,businesses,ones,prizes,ribbons,special occasions,winners,winning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30280" y="2413080"/>
            <a:ext cx="40100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profanity, making fun of people, and posting personal information are all examples of improper netiquet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roper netiquette can have a strong impact on your community by exploiting and making fun of a person and them taking drastic measur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5" descr=""/>
          <p:cNvPicPr/>
          <p:nvPr/>
        </p:nvPicPr>
        <p:blipFill>
          <a:blip r:embed="rId1"/>
          <a:stretch/>
        </p:blipFill>
        <p:spPr>
          <a:xfrm>
            <a:off x="596880" y="42840"/>
            <a:ext cx="8242200" cy="2743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75240" y="3048120"/>
            <a:ext cx="36511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/>
              </a:rPr>
              <a:t>http://www.ocregister.com/news/game-208290-wow-addiction.htm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/>
              </a:rPr>
              <a:t>http://www.webmd.com/mental-health/features/video-game-addiction-no-fu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Clip art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560" y="1218960"/>
            <a:ext cx="838188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ich One Is The Hard driv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Picture 3" descr="220px-80486dx2-large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48320" y="4800600"/>
            <a:ext cx="1941480" cy="1447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300px-Hard_drive-en_svg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14400" y="4976640"/>
            <a:ext cx="2209680" cy="1576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hi-def-hi-fi-2b.jpg">
            <a:hlinkClick r:id="rId6" action="ppaction://hlinksldjump"/>
          </p:cNvPr>
          <p:cNvPicPr/>
          <p:nvPr/>
        </p:nvPicPr>
        <p:blipFill>
          <a:blip r:embed="rId7"/>
          <a:srcRect l="20011" t="0" r="20011" b="0"/>
          <a:stretch/>
        </p:blipFill>
        <p:spPr>
          <a:xfrm>
            <a:off x="990720" y="3276720"/>
            <a:ext cx="1143000" cy="1447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ps.gif">
            <a:hlinkClick r:id="rId8" action="ppaction://hlinksldjump"/>
          </p:cNvPr>
          <p:cNvPicPr/>
          <p:nvPr/>
        </p:nvPicPr>
        <p:blipFill>
          <a:blip r:embed="rId9"/>
          <a:srcRect l="7914" t="19813" r="0" b="8906"/>
          <a:stretch/>
        </p:blipFill>
        <p:spPr>
          <a:xfrm>
            <a:off x="990720" y="1752480"/>
            <a:ext cx="1771560" cy="1371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755640" y="-12600"/>
            <a:ext cx="8150400" cy="146988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3" descr=""/>
          <p:cNvPicPr/>
          <p:nvPr/>
        </p:nvPicPr>
        <p:blipFill>
          <a:blip r:embed="rId2"/>
          <a:stretch/>
        </p:blipFill>
        <p:spPr>
          <a:xfrm>
            <a:off x="195120" y="895320"/>
            <a:ext cx="8899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3768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71680" indent="-50904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ich part is not a storage devic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Cd-Ro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USB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IP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5" action="ppaction://hlinksldjump"/>
              </a:rPr>
              <a:t>Prin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0904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37680" cy="14079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) This Is An Image Of What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Softwa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Hardwa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Motherboar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5" action="ppaction://hlinksldjump"/>
              </a:rPr>
              <a:t>Power sourc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3" descr="558px-Personal_computer,_exploded_5_svg.png"/>
          <p:cNvPicPr/>
          <p:nvPr/>
        </p:nvPicPr>
        <p:blipFill>
          <a:blip r:embed="rId6"/>
          <a:stretch/>
        </p:blipFill>
        <p:spPr>
          <a:xfrm>
            <a:off x="5638680" y="2590920"/>
            <a:ext cx="2799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755640" y="182520"/>
            <a:ext cx="8193240" cy="159696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3" descr=""/>
          <p:cNvPicPr/>
          <p:nvPr/>
        </p:nvPicPr>
        <p:blipFill>
          <a:blip r:embed="rId2"/>
          <a:stretch/>
        </p:blipFill>
        <p:spPr>
          <a:xfrm>
            <a:off x="146160" y="1292400"/>
            <a:ext cx="8175600" cy="62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4" descr=""/>
          <p:cNvPicPr/>
          <p:nvPr/>
        </p:nvPicPr>
        <p:blipFill>
          <a:blip r:embed="rId1"/>
          <a:stretch/>
        </p:blipFill>
        <p:spPr>
          <a:xfrm>
            <a:off x="438120" y="103320"/>
            <a:ext cx="8493120" cy="3255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560" y="3276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2" name="Picture 5" descr="1st place,academic,awards,businesses,ones,prizes,ribbons,special occasions,winners,winning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43200" y="30481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5" descr=""/>
          <p:cNvPicPr/>
          <p:nvPr/>
        </p:nvPicPr>
        <p:blipFill>
          <a:blip r:embed="rId1"/>
          <a:stretch/>
        </p:blipFill>
        <p:spPr>
          <a:xfrm>
            <a:off x="450720" y="347760"/>
            <a:ext cx="8242560" cy="3011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93800" y="3505320"/>
            <a:ext cx="32734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2"/>
              </a:rPr>
              <a:t>http://en.wikipedia.org/wiki/Hard_disk_driv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3"/>
              </a:rPr>
              <a:t>http://en.wikipedia.org/wiki/Central_processing_uni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4"/>
              </a:rPr>
              <a:t>http://en.wikipedia.org/wiki/Motherboar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5"/>
              </a:rPr>
              <a:t>http://office.microsoft.com/en-us/images/results.aspx?qu=winners&amp;origin=FX101741979#ai:MC900299011|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p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6"/>
              </a:rPr>
              <a:t>http://www.webopedia.com/TERM/H/hardware.htm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  <a:hlinkClick r:id="rId7"/>
              </a:rPr>
              <a:t>http://www.webopedia.com/TERM/S/software.htm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tiquette should be used at all time while onli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s of bad netiquette are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*using profan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entury Gothic"/>
              </a:rPr>
              <a:t>*calling people names on   public of any websi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49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111010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11100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000110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5" action="ppaction://hlinksldjump"/>
              </a:rPr>
              <a:t>10100011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0" y="327672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69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2" action="ppaction://hlinksldjump"/>
              </a:rPr>
              <a:t>10001001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3" action="ppaction://hlinksldjump"/>
              </a:rPr>
              <a:t>0010010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  <a:hlinkClick r:id="rId4" action="ppaction://hlinksldjump"/>
              </a:rPr>
              <a:t>00011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001000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160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0101010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0000100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10000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0001000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010010110 in whole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14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22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 4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 15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2477 in binary numbers 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.0110010111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. 0001001110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.100110101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.11110001010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42560" cy="2567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1st place,academic,awards,businesses,ones,prizes,ribbons,special occasions,winners,winnings"/>
          <p:cNvPicPr/>
          <p:nvPr/>
        </p:nvPicPr>
        <p:blipFill>
          <a:blip r:embed="rId2"/>
          <a:stretch/>
        </p:blipFill>
        <p:spPr>
          <a:xfrm>
            <a:off x="2286000" y="2286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5" descr=""/>
          <p:cNvPicPr/>
          <p:nvPr/>
        </p:nvPicPr>
        <p:blipFill>
          <a:blip r:embed="rId1"/>
          <a:stretch/>
        </p:blipFill>
        <p:spPr>
          <a:xfrm>
            <a:off x="450720" y="-360360"/>
            <a:ext cx="8242560" cy="2530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80880" y="3657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2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3124080" y="1981080"/>
            <a:ext cx="472464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formation of binary numbers found in notes taken in class, and the following websit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helpwithpcs.com/courses/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binar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number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hp.about.com/od/programingglossary/qt/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binar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461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ideo game addiction is excessive or compulsive use of computer and video gam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ideo game addiction is usually seen in kids who are unpopular and wants to be dominant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st common age group for video game addiction is in males who are under 30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en a child has video game addiction they are isolated, the act of emotional and social development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r adults they jeopardize jobs and relationship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ys to identify video game addiction is lying to friends and family about gaming, feeling irritable, and thinking about gaming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me people are called MMORPG. MMORPG is massive multiplayer online role playing gam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 get over video game addiction you must learn how to live with out a computer, and to learn responsibilit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 keep track of your child’s video game addiction is to check log ins of game playing, and for how log they play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603360" y="22536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buClr>
                <a:srgbClr val="68007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computer is an electronic device that processes, inputs, and outputs data at high speeds according to programmed instructions. It stores and manipulates inform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Right Arrow 3">
            <a:hlinkClick r:id="rId2" action="ppaction://hlinksldjump"/>
          </p:cNvPr>
          <p:cNvSpPr/>
          <p:nvPr/>
        </p:nvSpPr>
        <p:spPr>
          <a:xfrm>
            <a:off x="8458200" y="624852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8007f"/>
          </a:solidFill>
          <a:ln w="25560">
            <a:solidFill>
              <a:srgbClr val="4a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student</cp:lastModifiedBy>
  <dcterms:modified xsi:type="dcterms:W3CDTF">2010-11-04T18:21:38Z</dcterms:modified>
  <cp:revision>81</cp:revision>
  <dc:subject/>
  <dc:title>Topic 1</dc:title>
</cp:coreProperties>
</file>